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0BB-C8AB-4A35-93F5-2129EAAD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DB8-95D7-4C09-866D-F31F093B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667B2-A34C-4077-9BF2-FF5ADB3A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61219-6B49-4D58-9F39-529572E8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2FCF8-BB2F-475E-952F-040C7447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0A445-4D6A-4B75-9FB3-E548890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B1C97-7D2C-437C-8C12-BB1472B8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E33AA-3CBC-4320-99A4-B2C2441A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B4769-827D-4EAC-AFE3-84096957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2D70F-5902-4533-BE5B-19A55D03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2B7B5-A98C-4F12-A69F-5C5A8DAF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59DD8-1B4C-4B55-BCA0-7DA0DB9C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30C-D6CB-4CC9-8FFE-09EDFE8E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C61B7-41D1-4246-9AFD-76ACDC70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61A5F-7C7A-4A92-A85F-1CD5E9CD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172BD-4CBB-46EC-A0CC-F56B4007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9FBE1-9D07-4332-A73D-043AE739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0AB99-82AF-4C81-BD47-E0B30AF8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942FB-C83C-4349-ABE3-B1ED9F96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84254-0CBB-4744-A9C2-835B5F86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E3DD5-706B-484E-90B2-ECCD75D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FB8F8-03C9-43FB-A414-733CEE7A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C1998-159A-4810-A11B-F0117F8F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86D-D06A-41BE-9C55-9EC3C6F7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41673-10D7-49EA-8BCC-DE36A498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CA300-B126-4D58-AC1C-49FB7884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949D3-B397-4E59-AE56-19B16081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75D7E-F015-4905-A0FC-D1F754D0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A633D-2CCB-4350-A89A-16EF11E3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EE47A-355E-4A7D-A062-35C95D22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4D7FE-7230-4BFD-97C1-2F9767D7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E6ED8-3F20-46C0-8209-3C7B89BD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04C76-D962-4FCF-87EA-BC2CF92D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D64CC-D0A5-46F5-AD8A-1CD998E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C3FD-9979-4544-982B-653BF033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44E11-D689-4977-AA22-13C7FEF6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A00BB-8A10-4D3E-946B-87725B35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F1FA9-BF33-4001-BBEF-AB913D7A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655CD4-1012-47FC-A0F5-076E9CB5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8973B0-D109-4818-9F91-27389DD0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802308-1235-4F9E-A1EE-1F8ECEFE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718E5E-B824-4BD7-95D3-C09A2A39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C85745-4A24-4CD4-A320-FCBA191F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DF78B4-6993-400D-A060-F53D6BE7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C75D7F-8B1F-404E-8854-33246C8B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F29C-151C-463A-8314-01EDCE98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6CF8A6-9EB4-4A7B-BF31-3592A86F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A740AC-4DE8-4992-A210-4761A95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BD31B1-D7FB-4ED8-934B-2FA27C92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1CBDAA-B7C4-4197-8892-458EC3EE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C2CB0F-9BD0-4C2B-B055-71051545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0D27C-AE45-4B4D-A96A-B380DF3A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BEAE8-EED5-4E78-A111-68408E67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3E1B7-65CD-4B30-BBA4-EAECF9B2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CD98B-6028-4348-85CE-D11D3099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46A42-CC62-40FE-AC9A-5A1D6A8B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103D-0DBF-4B43-B107-E7BD9156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95C64-AA3A-468C-9193-EFD34E43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D5EDB-33ED-41D8-AEC5-FA47FA5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174C1-40FD-4C08-A91E-3F968816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B2F96-B834-4B27-B3FC-71A3BE79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586C1-17C1-4F9B-AFE7-60752E00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9B562-6EE0-4D8B-8297-F98C4DD0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6B80F-F8A9-4D6C-BDFE-0A6F7D47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009510-9D91-437B-9BF2-9C70C7F6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466C37-B3B3-4E7B-A594-15927EB4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A01B4C-A82A-408E-A748-2E720414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D609-4BC3-4441-8C29-33AD2A6F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B660CD-317B-4191-B508-C74E4500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4A90E0-167D-4068-9B43-5674699C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1FCC78-8A30-415E-8F3E-1DE32A5B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11E28F-8457-4353-8AD8-4C0725A2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6C91B0-0B7A-430E-BAA9-571B4722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00F61F-66EF-456C-BA9D-2CCE7E6A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810B13-76E9-4DDF-8CC4-D7310F41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4A9FB9-5771-480A-A0D4-69FB5ECE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5925D9-A342-4066-8DF4-2A81B124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A333CE-9740-4BFB-B9AD-23DD200E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9B36-3BF6-41E0-90D0-C7D4639D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81A1A0-5BB8-4DDA-BD5C-8EB7C753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D5DA4D-5043-4A8F-9758-F236BD4A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BB4BFC-2B05-41C8-AEBB-97926B09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843C71-7658-425B-9858-B00F0673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23C3DC-7EEE-4AB5-A511-85428186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5A107C-4186-4939-8FB7-3301794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3B1FCC-7C5B-401D-B34A-33904DB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2AF39D-8550-48F8-8422-F0CA89E5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8591D6-C9BC-446C-9D67-12E2A336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7158A8-AEE9-4748-A977-FE85B3BC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6416-25D5-49C9-9E2A-F6A15F82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AEA73D-E298-47C6-89BE-7D8E4B6C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08FF49-13DA-4959-9679-7F2B67CA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D08045-2D0D-461B-AD6E-74F957CC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F0A8C2-B630-4737-ABD4-2619AA12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B96669-F716-4FB5-B391-F468ACEB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44847B-C4D4-46D3-9790-2ED359E4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33B73E-532F-4C23-A574-DDF2CED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8E84BE-7986-417D-AB9B-7A275978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F2C076-2FD1-44EF-8F73-B264E3D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4B86D2-0914-4B22-893B-B1A5BD8A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9FBB-296A-4614-82B0-0C15CA0E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A10C58-91D7-4586-95E6-A4B0722B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0589D9-881F-463A-8BB1-E43B0FE6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083B1E-02FD-4EC6-A8D4-32BD528C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82774-A4CD-421F-88AD-D6A10055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D42CE-F33B-4A31-8652-3CD8A4FB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9A4C4-A4F1-4CC7-A506-AAE46535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68D83-A477-4B4C-B50A-66DDAD95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E1A27-FCF3-4779-8F94-042915A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E101B-4D20-49A1-B275-E98FE803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23E9F-C204-472B-880F-B0A94CA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179-B8C4-4EA1-BD13-11907B96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F613-C703-408E-81A8-D4DD1F0E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227098-0D64-45DA-A31C-EA7A4A50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C107A-7124-43D0-8D5E-E5F125CE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308D1-A923-4499-AA74-49365D9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90888-845E-4617-A835-EFB8E94A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8CCAA-C478-41D1-AEE0-F4381FC8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9040E-8A4F-444C-949D-64951803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D5A0A-4FE4-4313-AFC2-B47D1221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D4054-824F-4305-963C-741A2947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E0FA5-AA46-46F6-8D23-4D257A21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D8548-3AF0-4182-B109-19B092DA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4AEA-9C43-4136-B9D6-7EB15EE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EBB5A-E30C-41FF-83E4-F5EF7FF2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EF7C6-AD48-4D58-A901-FD6069D0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8D273-C3E9-466F-8C49-924DD2E2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5296B-C928-4E58-80B6-0335CCD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023F67-D7B7-4227-9C87-A65B37B1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A80ED-826F-4889-BA2D-E7D9CAD4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B714C-56F6-47BA-B637-26DB4EFF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148FCF-790C-4B57-B4B4-568B4F8B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2B4552-5EBB-47E5-9A07-0A21957D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4BDEF-27CC-4B80-9999-DD78D173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87E2-9DA1-4B72-B1B5-0520AAE3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DC2FE-1BA6-40B7-B4CA-BD180A1A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46907-3E9E-4B71-AB0F-27F3DE57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37AFD-C170-49C6-B930-C46E4EC5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02CF5-618F-491B-9F53-FE5A0A75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04B52-06F0-4000-BA70-1BEB945B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25C14-22D9-4223-8F22-2F0342A9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0D34C1-DD82-4386-A90B-89376312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00B7F-C18F-419D-8E2F-078903DC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972B1-E71A-4EB4-93C7-DF2FCD07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79C034-F0DF-47A9-988A-2C4CEB6E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747A-3AEA-4AB8-AA46-1E7866C1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C2AEC6-A1A2-4473-9719-E0805DF9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3504C-ABDE-4577-A548-E96E8A56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FD2F5-C531-4CCE-ADFB-E255AD5D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D0957-E4E0-4700-85FF-8E76E61C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814B1-B0A9-4E15-8162-6C8A5DBA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39A3A-0274-4B87-B6AD-44129F9D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1B98E-B28C-47BF-A784-2740B64D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A1A19-41F2-44AD-A90F-5404858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4C8D7-71A5-4AED-926F-115BD613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1E113-CBC4-418E-8353-8C624AF9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986C-8237-4830-AD95-19FF64DE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F15A7-096B-4348-9B59-1D51653A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6FD93-78B1-44D3-B984-D4AD8912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7D509-5F63-4EEF-B863-5D9C0B47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2ABA9-2295-47D5-926B-07A664EA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5AF5E-D8E5-412E-A6A2-A93D4891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F2DB6E-A508-4B9D-84C4-D1FA9F98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BDCE90-A901-4520-889F-78008A1A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D4BC9F-C7C0-403D-B7EC-1340D275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F61E0-74F1-4573-8A27-48610198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6D3C8-ED27-4ED7-AB56-59EAF6A4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1A8B-8247-4F3E-9195-E4552B4E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CF1CB-2D3A-42F9-908B-B7B07292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406BC-07C7-4523-8EB9-34CE8019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15718-373F-42A5-B842-E8708C6C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651101-4A6D-4DB5-9681-CB22F8AA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2C6FF6-7495-42F8-820B-FECA6D06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269325-CC7B-476C-94C2-82A2A03E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A9B63C-2B7B-4BAE-98EE-DB084E2A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A2306B-D3DF-4526-83CF-7E027F3A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1D25FB-2047-4B46-B47E-F4BE925D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EE3638-3888-49D1-893F-07FBD8D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8626-1556-4779-BE34-F49D6FF9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0031E-FBB4-4485-98B2-5E2C0552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56FCEB-80C8-45D9-A5BB-3AE6377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17359A-4A73-4CD9-BC13-1019444B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AFC05-0B0E-49A0-AC11-DE23ACA3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57E11B-6AF4-476F-A8A1-5626973D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93DA7-1442-487C-A9AC-010A4683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9AAF85-CA15-45D5-9887-44EAD817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E2ABAF-ED3E-4ABC-A6B7-52040E06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32181E-3B7F-4683-8A0B-84718BDC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22B601-5ACC-4B8B-B1CA-D2B377C7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464A-AC20-4A6B-AB8A-D6F8DBF2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0511F-61ED-4DEE-A633-7EADDB4B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6BD4A3-8B2C-4398-8219-3F2DD0C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21E334-692A-4563-AC50-BEB57B7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281453-7FE8-4CAA-AA77-F542A5C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0EADAF-2350-48F4-9F19-011FC044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00F06F-E9B1-4E87-9D2F-0E1591D2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0B0E85-54CB-45F3-9F5A-553C3074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B87CF5C-4C9E-4EF2-A916-D874873D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40B0964-23AB-4B27-ADF7-EBEA8990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2545241-CA15-4AA6-A3C9-21397999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4ADC-ABA5-4E26-A5A3-5FC6EE76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B8B9EA-5B71-4083-86D1-CD41596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88B7E2-C70F-4A21-BC6F-42D720A3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8D7EC88-0F16-4A0F-ACDB-21D37C5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E6ACC0-CD10-41AA-A0DF-B8A7C40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A76D71F-90E9-4351-A390-0793A26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ECBDDA1-984D-4C9B-B9D7-8875C3AF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5F1DC3-4599-4856-845A-D03FC6D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387741-D845-4012-B771-B83692CD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5398A3-943D-4C20-B924-67302977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866F171-EF4C-4461-8396-48E773AC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C9C2-05B6-4EF2-96D2-5725B38B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4E78132-CE4F-45A7-BD3B-C0FC98D4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98ACF0-285B-4BE8-B8A2-C3EC564B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DA2E3BD-F25A-43EB-BA7D-54904456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C80C4DC-CEB2-4A7A-83AF-34C94588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84102B8-A3BB-4A59-B2CC-877CC424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C6A338F-7160-479B-A06A-81099269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02EE937-07D3-4DE1-9342-11D14D1C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829F73-C2B8-455B-B99F-B6D165A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640661-EB91-401E-AE14-FE6C71E5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25537E4-F85E-4F6D-A74C-ABC02DEA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419-49D7-4474-99FF-036AACA1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5642-52E3-43DF-8061-C9BFF132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9C648B-AE83-427B-AB87-E5D3BAF2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A32E69-7B3E-4BAB-AFB9-DBCC7F8E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E9A029-FEE1-4E7D-86D3-78E09EA9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AE128A-0DDC-4B3D-82A9-A2488771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0B3A7E-3A55-43E8-9043-AD61990D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D7E14C-96EC-430A-AF24-C4F75177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40192B-62D9-4728-B35E-AAE68A74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FFC7EE-CB0F-4B80-896E-4EFAACAB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D7FDDD-B144-4FD1-A247-8BA8AA3B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CD391D-55D5-46D6-A672-4B2A9964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7F1E-E59E-415C-A9DE-C301227B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E18142-B506-4E30-9051-1F15F26F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63069A-B0E0-426E-BF46-A9D6407A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5DD1A5-7524-479A-85D5-9FB60DFA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33BE9C8-B3AC-45F4-8AFE-E846553A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772CB38-362E-43AD-8148-E7497758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8EF6EB8-DAE3-4AD1-9AFA-87B5F6B1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341727A-00C5-474A-BA7A-244ABE0E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A37416D-74EE-4BB1-8743-8E608F4C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5C34FEB-80F4-4009-8238-FBB7BD71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09A617-BD65-4174-9ABB-1A78890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5D98-2CC5-4D51-84E9-6ACE979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9D0D16C-1455-416B-8F57-AF71A733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D97DEBD-90D9-4613-B695-419EB751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9923F9A-9720-4810-899F-D6532841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7533902-219D-454D-88ED-519B3560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71C1883-ED70-4D91-9FB9-56EDD0E4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D65CF7-F3BD-48F8-9353-3B1A4C58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0E2DD8-82C9-48A5-858D-271882C7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0723C8-EA02-407C-922F-75A30A87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0670E3-F44C-4EA3-BC8B-60C67D3C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975703-2696-4789-A5C5-F96ECA90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2B53-7876-4A1B-BCBE-4A8A037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4CF18C-72FE-4362-9585-2CAF46E1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05D5C4-4F0B-4413-A5A5-69C505C4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C3A098-7F28-4968-BF0C-CCE2C20C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62EFAA-E70D-4CF3-8E9A-3334C0B4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8B65EE-D952-416A-8626-CF1BB75B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9363B5-4A7A-42C9-BF8D-9CDC2F44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CD9E80-6708-4BF9-B0EE-8DC0CF27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90A418-C175-41E4-AFF0-3FF36B18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E201F1-9001-4491-90C8-77CEF352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98637D-5EA5-45D1-9CC4-90ACFD2E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D3C1-9AC1-4895-AEA1-440CF2E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AB60AB-EA1C-4FB1-B9B7-EBEB22F2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88666E-4DC0-452C-9570-6E3ADDDD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868139-E0E0-4775-BE5C-AA1BD61F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D46144-DA71-4DBE-A7C4-4E7A490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FD1AB0-5ED5-4F32-8404-EC37A5A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0A8BC8-88DB-4CCC-A7BD-244D5D16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51212B-5BE8-42EF-BEAD-4346B9E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6B34F6-B9B5-455C-A89B-F8D78BFB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29976B-7E92-4865-8C70-F703A30C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A7BB7B-74E4-44DA-926B-D1A376D9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1A306-F8DF-4318-B383-E3942BC6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6694B2-AADA-46E2-BCE1-24DE8CB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9B76A0-1CB6-40A3-A923-AF779BC7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C46AB1-9F8C-43C5-B633-5D79EAF5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6F3E3A-8B88-439F-B1C7-FD476C4A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089FBC-DBF6-4697-A9E4-839698A3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BB51E4-B78E-4DB8-A5FD-4C2266A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A801E0-6CD2-4804-A3CA-D5DE65EC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F63A08-9F8D-4B60-BEC7-6F64F930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C2372F-52DE-43B7-9D78-FE19AFCF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662863-487F-4F2A-8C09-A6774A90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C904-6678-4ED2-A735-7BEC7EA9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880AB6-0031-46C1-BDC8-DE8DBAB6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8A75D0-E31B-4961-8775-DA87A0AB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E8657D-DD9C-4964-AE0C-8D8BEC5E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ADCAD7-3C90-4431-B2CE-D709FB2E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315963-6F79-463D-9878-88A45AC4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12BE73-262B-4F19-A7E7-DE36C61F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7D623F-C95C-4D87-B2BA-D8489A38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3BEF69-EF26-4595-BA1F-53B2F760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4B9179-DF71-4508-A144-FAD5ECA5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35181D-5D6D-4091-BD1F-FB39B49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4F1CF-C73E-4113-A9B3-85829DD7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6B1DCC-49D3-4C6D-96E9-0AF26049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F52057-B353-409C-BB64-B0C9C8B9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6102F1-396E-445B-AC19-C72D4262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5B53AC-793D-4F6F-A9E0-64D4385D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FAE53F-629E-4EC0-A463-A1CC3DE9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E277C4-D42B-4734-B58F-D76FF520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A71A23-EF0C-4054-B054-50486B03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3C34FB-5639-42A8-AA35-B46DEFDD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638F08-59EE-4BFA-86DE-CF2A7D6A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882AF1-E851-476E-B713-9B018C83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67EB5-0CF3-4491-A999-0A0BB113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D1E164-F9E6-437F-B3FF-CC1D84A2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E44427-DD57-4C21-99B1-836C64F1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7D2D8E-1573-4A94-8445-D8C91D0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98EB7E-6ED4-4F43-9151-BA46681E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FF459A-5532-4281-82FA-DB26F863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71DF6C-4B11-47E1-AEF1-F4064E0B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BA82CB-FF85-4FBD-845C-AC37F710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453C67-C364-4814-8873-571C5CB9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FA0FF3-90EC-4597-92CF-606F83F9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492F88-219D-4F84-8DCC-4EC0701D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F031-FCA4-4444-8A94-C446942A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C79B98-1FAC-4ED9-A9F8-CFB9FC1E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B45932-D8B8-4AC3-84E3-5745A659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B26245-257E-4BDD-BC79-45079E0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7229E3-DEEA-4144-B3AB-B9D05DE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F2A697-2DE1-4B36-85BC-10FB89BF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B92B12-483B-437E-B036-05FCA62E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28AAB0-81B5-4F6D-8C17-46F2D881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D9FC3D-5A47-4B06-8541-F8D44F38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4F585A-12EE-4394-AD2E-0AC77639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1BC5B1-1203-4721-BA43-1829CD0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FC9-DCFD-4D69-AAAF-38F96D9E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2B62-44DE-4596-9DEF-01ADC501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15AFE5-4B92-4443-85D1-4076A3BF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1D4B1D-E196-4599-AC1D-FE9A1E81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58D7CC-3D99-4ED3-AF74-3EAC80CC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574FCC-1FBC-4692-9BE9-28C6407E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1369C5-9C4A-469B-87C1-D3DF94C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7EEA68-5E56-49C8-9AC8-4ACCB02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18DF6D-6542-4B7C-B3F7-B55F0708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EC8987-2455-4213-B0CF-626CA680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3CCEED-4658-47F4-8B2C-164050DA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A06AF-8BD7-4755-B0E2-96F81829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CD71A-9EB9-439B-A7C7-E70FDFE1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AEC7-E1E4-4C8E-8AA3-7F348390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E9BA-75ED-4B39-9FCD-1A4F9C3F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0EF74-BF1D-4B70-8F45-C0A071CD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5D395-2985-4B33-A04D-CF4C7CFE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448A-E6DA-4732-B84C-E6433B6A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357B4-3A3A-4354-9BAE-3C7EE563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66ECE-B562-4B1C-84BC-06499C95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ECE-A8AA-490F-896F-B76C3D87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FBE3F-B4A6-4D9A-8149-083E136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7CBC6-B922-49C7-A9D9-EF232F3D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95EE8-0F76-4E0D-B320-5C95D620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37916-5D4C-418A-B4C5-C02AD61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B8E5B-E7F3-4E6B-8537-47276733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96E88-8F70-4BC6-A07A-221E7C33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536C6-F520-42A1-A80F-9A6A775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AB0C-D9F6-4382-823D-3502942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6741F-5324-422D-B242-152A1E46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AD08D-2AC0-4F77-9D31-AF31F202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8A1-AD79-4F25-9120-DCA034F6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06572-447B-4923-A367-F5F4DF88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6C6BC-71A3-4298-ABCF-ABDD8277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4C4FE-1703-46B0-8CDB-B5A16FD5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F1030-F3EC-4B99-A838-AE77590C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0A906-5B64-4F29-9F5A-D7A7EBCE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DD739-F84C-45E5-A3D9-BAC62BE2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23132-C25F-4EE8-872F-59698892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EC7CF-816B-4131-A3A2-8EAA5048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D5535-0314-45C6-9197-8CD1DF7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6E7FA-E0C9-41B8-8D23-C3118B04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23B-880C-416E-9616-0C0E14B7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ED6B1-245F-43CC-92E4-732BE048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D99C6-4E16-4936-BA0F-87189A8E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48D65-EBD8-48B8-907F-FBBE854A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4EBBB-DB78-421C-A187-8C36F128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40013-B295-4A27-BBA8-A0D04D14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29020-0A41-45F3-8229-E0AFE296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282C6-39C1-47FE-B213-6CD9280E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6C825-2BC8-4EBC-8E4E-8834190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943AC-C8D3-450D-9C58-591C816E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C8030-F12E-48B7-A3EF-4EE1A4E3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777-6A18-4348-A4BB-3DED7DB4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0A15-F1F7-4C22-B0E9-F431637A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1B43-551F-40F9-884E-B296646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56DC0-E449-416E-9FB2-D4A277E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9098C-3F4E-4176-A973-18E9D7AD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FAD18-30B8-479D-ADFB-60B37AF8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9C1B-370F-4955-8422-6E2E717B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58601-A46B-4C45-A685-338C3A4D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6E487-63E1-4E64-994D-AF7038A8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AA751-B936-4194-908A-6418093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FD713-3F7E-488A-BD2C-3BCC992D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E36-5C2C-4797-9513-9BBCF058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7F89D-915B-4E0E-A492-2129404B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8241F-F74E-4444-B442-549AF38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8D31C-7F8D-46E6-9493-E6135B85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26E3-DA8F-41CB-B4E0-92E96102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AC739-FEAB-4D4F-9AC5-6461480D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79EE8-B8E9-4B0D-9D59-4CD9B3D0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0E202-0E43-41C5-B501-C2AE8E30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9361C-9DC2-49BA-915D-A2DBD4F3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743E7-1CBC-441F-84BC-22A3938F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31313-327F-4EE6-9D10-6B90B752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C51A-CB42-4031-AEE1-623140EEF0F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A638-CA04-4305-BBDE-0C5449363F4C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BA72-45BE-4C0B-903B-7BBD050DE0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4141-390B-4EF7-B32B-F1A85FE172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7A4C-3FED-4344-B8CF-808A8F16C48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972C-A9E6-4BB4-A93B-DA43C33694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547-FAD6-4B18-BC62-37B6C569A16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184B-49A8-4360-938D-76164A24975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AB96-1027-4B07-8737-DFFF0944457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8A2D-0291-440B-BF0B-A99C9C4B545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5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C10B-BC56-440C-BB6B-AB12C55548E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CF89-75DC-4723-A4F0-0C77FCA018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C96B-12DB-4CB1-8542-2324FE0E6EF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AE8E-F1F3-44A2-B2BF-5A40FE9E95D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B1F4-2934-4D08-8482-42715DF05E3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6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59D4-6F3A-4647-A9A2-592DB1EFD1A5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0C43-B7FC-4CF9-BC15-56246FDDB5F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7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0ACF-FB54-4B59-9E28-D532E8B0361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dt" idx="7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ftr" idx="7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7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0ABD-AA1B-4D60-9029-DE85601CDD9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7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63EC-F872-4454-A27A-CC20780E1F6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dt" idx="8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ftr" idx="8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07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1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B7E6-C646-42CB-874D-B7141B07D9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6C3F-F5BA-4089-9B1C-964BDA4C49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5E2-1089-4BE3-BEA4-BDF8F63725D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A528-E07F-4C08-9969-7F96FCF2D5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98C2-28FE-40C3-AC16-578BB299E7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D6C-D585-4D47-A67D-59012624FF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A106-4CFD-4CEF-9779-6841682567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8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FB53-9443-4A4F-AB5B-7D521BDCF0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892B-BBAB-4FE8-A518-17BF6DA7D5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61D9-A468-4F2F-9A93-F6FDEBD34F07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40ED-ED4A-4B67-A3A9-61589F53889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5788-3E4B-4C2E-9C10-79130DB105B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AB35-4D38-41FD-AF9D-21D3473ABE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8966-4DFA-4BA4-B258-6144A5B484F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162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HEMATICS AND TECHN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The mathematical and technological skills that I learned and applied throughout this project was I formatted excel cells to calculate my work just like a calculator would. For example, to calculate the total amount I spent shopping for my dorm in collage, I type in =SUM(D11:D29) in the bottom cell and it calculated for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ffective Develop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1898a"/>
                </a:solidFill>
                <a:latin typeface="Georgia"/>
              </a:rPr>
              <a:t>This project has increased my knowledge of self because doing it made me have to think about what collage I wanted to go to and it told me how I felt about the dissentions I had to make.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Some decisions I had to make were I had to decide how to spend my money at the store for food and I had to decide what collage to go to and what to buy for my dorm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39:14Z</dcterms:created>
  <dc:creator>ITSUser</dc:creator>
  <dc:description/>
  <dc:language>en-US</dc:language>
  <cp:lastModifiedBy>ITSUser</cp:lastModifiedBy>
  <dcterms:modified xsi:type="dcterms:W3CDTF">2010-02-10T20:58:05Z</dcterms:modified>
  <cp:revision>7</cp:revision>
  <dc:subject/>
  <dc:title>MY COLLEGE PLANING REFLECTION</dc:title>
</cp:coreProperties>
</file>